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move the slide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F515-640C-47E4-96FE-26730C005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ethods have the following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The member functions corresponding to Control methods,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, Connect methods, and Notify methods are describ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b.cf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The member functions receiving a message are described in stub.cfg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necessary to describe the member functions sending a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ub.cf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Stub fi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b file defines the connection between an object’s entry points and it’s corresponding core class member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CF fi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F provides the object’s runtime configuration and is in the form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OBJECT_NAME STACK_SIZE HEAP_SIZE SCHED_PRIORITY CACHE TLB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ettings fi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FG files.  There are 3: Object (Objects to be executed), Connect (Definition of inter-object connectivity), and DesignDB (list od files and paths accessed at run-ti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K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4 basic (required) methods and there are no message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Stub Files, OCF, and Makefile are essential.  When they are correct, compiling is 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Also compiled PowerMon.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torial tends to jump from non-continuous specific example to abstract samples.  It would be better to have one continuous example with abstracts interjected as needed for expanded detail.  After reading the tutorial, a full understanding of the sample code is not ach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ed structure of the software and services provided by the system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N-R system layer provides a set of services (input of sound 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of sound data, input of image data, output of control data to join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of data from various sensors) as the interface to the application l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nterface is also implemented by inter-object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ervices enable application objects to utilize the robot’s under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ty, without requiring detailed knowledge of the hardware devic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ise the rob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stem layer also provides the interface to the TCP/IP protocol stac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enables programmers to create networking applications ut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inter-object communication enables each object to be creat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ater be connected to other objects. This results in a very efficient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bjects communicate, the side that sends data is called the “subject,”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that receives data is called the “observer”. The subject send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Event’ to the observer. NotifyEvent includes the data that the subject want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to the observer. The observer sends a ‘ReadyEvent’ to the subject. The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eadyEvent is to inform the subject that the observer is ready to receive data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. If the observer is not ready to receive data, the subject does not send any data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re class is a C++ class that represents an object. Each object sh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ed by only one cor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s have entry points for receiving messages.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y point corresponds to a particular method of the object, and each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s to a particular member function of the core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methods are called during startup and shut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 method, Start method, Stop method, and Destroy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 to each DoInit(), DoStart(), DoStop() and DoDestroy()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object’s corresponding core class, respec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4C1-FEFB-4420-B546-B7D15BB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898-462D-46D8-A9F0-E65A0A1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FEC-D89C-4F74-991E-229749F7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6FB-63D8-4629-A815-E519BB13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B38B-8438-49AF-AA4D-242F606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3987-2465-4A73-A65D-A410415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191-883F-4DFC-A341-893DEE8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2668-917B-42DC-8101-A7BF8D72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5066-4D8B-45CA-87FA-C37C310A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AF41-C605-43A9-BDCB-C486A359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B23-67D6-4DC7-B4F2-1088A87F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FF8-231B-44E7-A4FB-0D983DCA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408-17D5-4774-A897-632E2782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21F1-D096-4E9D-AE73-1BB3994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A1CB-986D-4704-9549-97EF8CFF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047-1155-462D-8ECC-5B63F889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A70B-58A6-4157-A1E5-818D1188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7B5-7A24-46CB-A183-B0C7013A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CC9-02F8-4226-8E26-AC4E7953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31A-370C-4754-A076-95A11E0F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1FC-B4A2-44B9-AFEB-91F31D7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D6A-CABD-4101-90A5-619D540C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120-8CAA-42DC-A83D-ACA5B38F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B37-D45E-46BA-9790-A909179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56C-7727-4BEB-9B55-E00E83A427B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2631-61BD-4B17-8929-34B24DCC1CC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ltu164.ltu.edu/aibo" TargetMode="External"/><Relationship Id="rId2" Type="http://schemas.openxmlformats.org/officeDocument/2006/relationships/hyperlink" Target="http://ltu164.ltu.edu/aibo" TargetMode="External"/><Relationship Id="rId3" Type="http://schemas.openxmlformats.org/officeDocument/2006/relationships/hyperlink" Target="http://ltu164.ltu.edu/aibo" TargetMode="Externa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Aibo</a:t>
            </a:r>
            <a:br>
              <a:rPr sz="66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pen R Introduction</a:t>
            </a:r>
            <a:endParaRPr b="0" lang="en-US" sz="48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 Ur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ass Dev.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ommunication Metho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ethods used in subject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ntrol method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receives the connection results between the subject and its observ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Ready method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e subject receives ASSERT-READY or DEASSERT-READY notifications from the observer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Methods used in observer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Connect method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receives the connection results between an observer and its subject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Notify method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receives a message from the subject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215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ass Dev.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lass Development Step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1) Design your object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2) Design the data type for inter-object communi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3) Description of stub.cf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4) Implementation of a core clas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5) Decide the configuration of your .ocf fi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6) Buil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7) Edit the setting fil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8) Execution on AIB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(9) Debugging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225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ireless Conso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iling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emory Stick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35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Wireless Conso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LAN Manager vs. WConso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LAN Manager allows for creation of WLanConf.txt &amp; access to Aibo Mind http pag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Console is used for debugging and system monitoring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Link Setup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uccess achieved with static IP addres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45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o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irectory Structure &amp; Fil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:\cygwin\usr\local\MyProj\common\HelloWorld\HelloWorl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55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1"/>
          <a:srcRect l="30470" t="12499" r="29687" b="75810"/>
          <a:stretch/>
        </p:blipFill>
        <p:spPr>
          <a:xfrm>
            <a:off x="380880" y="2905200"/>
            <a:ext cx="6096240" cy="12999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rcRect l="31253" t="12499" r="3127" b="54303"/>
          <a:stretch/>
        </p:blipFill>
        <p:spPr>
          <a:xfrm>
            <a:off x="380880" y="4581360"/>
            <a:ext cx="6400800" cy="2352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o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74640" y="10666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elloWorld.h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67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268720" y="1584360"/>
            <a:ext cx="6886440" cy="52776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fndef HelloWorld_h_DEFINE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HelloWorld_h_DEFINE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OPENR/OObject.h&gt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HelloWorld : public OObject {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World()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~HelloWorld() {}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OStatus DoInit   (const OSystemEvent&amp; event)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OStatus DoStart  (const OSystemEvent&amp; event)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OStatus DoStop   (const OSystemEvent&amp; event)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OStatus DoDestroy(const OSystemEvent&amp; event)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endif // HelloWorld_h_DEFINE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o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ell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orld.cc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78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279520" y="333360"/>
            <a:ext cx="6864480" cy="6421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OPENR/OSyslog.h&gt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"HelloWorld.h"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World::HelloWorld ()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   OSYSDEBUG(("HelloWorld::HelloWorld()\n"));}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tatu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World::DoInit(const OSystemEvent&amp; event)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   OSYSDEBUG(("HelloWorld::DoInit()\n")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SUCCESS;}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tatu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World::DoStart(const OSystemEvent&amp; event)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   OSYSDEBUG(("HelloWorld::DoStart()\n")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YSPRINT(("!!! Hello World !!!\n")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SUCCESS;}    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tatu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World::DoStop(const OSystemEvent&amp; event)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   OSYSDEBUG(("HelloWorld::DoStop()\n")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YSLOG1((osyslogERROR, "Bye Bye ...")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SUCCESS;}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tatus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World::DoDestroy(const OSystemEvent&amp; event)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    return oSUCCESS;}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ompil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o to directory and enter “make install”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289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883908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Memory Stic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rst Copy OPEN_R_SDK\OPEN_R\MS_ERS7\WCONSOLE\memprot\OPEN-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n Copy HelloWorld\MS\OPEN-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n create your WLanCONF.txt file and copy/place on memory stick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00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09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/>
          <a:srcRect l="0" t="0" r="0" b="45448"/>
          <a:stretch/>
        </p:blipFill>
        <p:spPr>
          <a:xfrm>
            <a:off x="990720" y="1905120"/>
            <a:ext cx="6333840" cy="365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Outlin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lass Developme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llo World Examp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ample 2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mpetitor Cod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nclusions &amp; Next Step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46760" y="4708080"/>
            <a:ext cx="1339920" cy="2008800"/>
            <a:chOff x="7646760" y="4708080"/>
            <a:chExt cx="1339920" cy="2008800"/>
          </a:xfrm>
        </p:grpSpPr>
        <p:sp>
          <p:nvSpPr>
            <p:cNvPr id="128" name=""/>
            <p:cNvSpPr/>
            <p:nvPr/>
          </p:nvSpPr>
          <p:spPr>
            <a:xfrm rot="18900000">
              <a:off x="7891560" y="4889160"/>
              <a:ext cx="32364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8100000">
              <a:off x="7814880" y="4811040"/>
              <a:ext cx="495360" cy="4921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4080" y="605160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6200000">
              <a:off x="7938720" y="5678280"/>
              <a:ext cx="71460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112240" y="6396120"/>
              <a:ext cx="3124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8100000">
              <a:off x="7794000" y="5334120"/>
              <a:ext cx="7160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67720" y="6084720"/>
              <a:ext cx="318960" cy="632160"/>
            </a:xfrm>
            <a:custGeom>
              <a:avLst/>
              <a:gdLst/>
              <a:ahLst/>
              <a:rect l="l" t="t" r="r" b="b"/>
              <a:pathLst>
                <a:path w="201" h="398">
                  <a:moveTo>
                    <a:pt x="0" y="0"/>
                  </a:moveTo>
                  <a:lnTo>
                    <a:pt x="0" y="199"/>
                  </a:lnTo>
                  <a:lnTo>
                    <a:pt x="200" y="397"/>
                  </a:lnTo>
                  <a:lnTo>
                    <a:pt x="200" y="196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19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rcRect l="0" t="24966" r="0" b="0"/>
          <a:stretch/>
        </p:blipFill>
        <p:spPr>
          <a:xfrm>
            <a:off x="1057320" y="1752480"/>
            <a:ext cx="6334200" cy="502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Hello World 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te the additional line on power-down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30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37" name="" descr=""/>
          <p:cNvPicPr/>
          <p:nvPr/>
        </p:nvPicPr>
        <p:blipFill>
          <a:blip r:embed="rId1"/>
          <a:srcRect l="0" t="59671" r="40376" b="0"/>
          <a:stretch/>
        </p:blipFill>
        <p:spPr>
          <a:xfrm>
            <a:off x="1066680" y="2971800"/>
            <a:ext cx="63676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all Tracking Head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40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543800" cy="511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49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5181480"/>
            <a:ext cx="3429000" cy="13478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607200" y="2930400"/>
            <a:ext cx="5529960" cy="3987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allTrackingHead7 : public OObject {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llTrackingHead7(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~BallTrackingHead7() {}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ubject*  subject[numOfSubject]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bserver* observer[numOfObserver]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OStatus DoInit   (const OSystem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OStatus DoStart  (const OSystem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OStatus DoStop   (const OSystem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OStatus DoDestroy(const OSystem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NotifyResult(const ONotify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NotifyImage(const ONotify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NotifySensor(const ONotifyEvent&amp; event);</a:t>
            </a:r>
            <a:endParaRPr b="0" lang="en-US" sz="16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8188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7648200" y="4478400"/>
            <a:ext cx="1010520" cy="2254320"/>
            <a:chOff x="7648200" y="4478400"/>
            <a:chExt cx="1010520" cy="2254320"/>
          </a:xfrm>
        </p:grpSpPr>
        <p:sp>
          <p:nvSpPr>
            <p:cNvPr id="360" name=""/>
            <p:cNvSpPr/>
            <p:nvPr/>
          </p:nvSpPr>
          <p:spPr>
            <a:xfrm rot="2700000">
              <a:off x="7995960" y="5829480"/>
              <a:ext cx="3204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3500000">
              <a:off x="7953120" y="4603680"/>
              <a:ext cx="486000" cy="485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3500000">
              <a:off x="7796160" y="5663880"/>
              <a:ext cx="714240" cy="71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3500000">
              <a:off x="7767360" y="6062040"/>
              <a:ext cx="31752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7943760" y="6019920"/>
              <a:ext cx="71136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1720" y="4478400"/>
              <a:ext cx="325440" cy="649080"/>
            </a:xfrm>
            <a:custGeom>
              <a:avLst/>
              <a:gdLst/>
              <a:ahLst/>
              <a:rect l="l" t="t" r="r" b="b"/>
              <a:pathLst>
                <a:path w="205" h="409">
                  <a:moveTo>
                    <a:pt x="0" y="0"/>
                  </a:moveTo>
                  <a:lnTo>
                    <a:pt x="0" y="205"/>
                  </a:lnTo>
                  <a:lnTo>
                    <a:pt x="204" y="408"/>
                  </a:lnTo>
                  <a:lnTo>
                    <a:pt x="204" y="202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32880" y="518004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143000" y="1587600"/>
            <a:ext cx="7772400" cy="5270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all Tracking Head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ompetitor Cod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74280" y="1795320"/>
            <a:ext cx="770724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erman Co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cellent Setu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Very Complex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pecializ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 Co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bit simpler in comparis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U to rewrite for 2005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ne significant factor was robot positioning (transition from offense to defense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259760" y="5328720"/>
            <a:ext cx="1726920" cy="1543680"/>
            <a:chOff x="7259760" y="5328720"/>
            <a:chExt cx="1726920" cy="1543680"/>
          </a:xfrm>
        </p:grpSpPr>
        <p:sp>
          <p:nvSpPr>
            <p:cNvPr id="372" name=""/>
            <p:cNvSpPr/>
            <p:nvPr/>
          </p:nvSpPr>
          <p:spPr>
            <a:xfrm flipH="1">
              <a:off x="7259760" y="5997600"/>
              <a:ext cx="325440" cy="322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8900000">
              <a:off x="7467120" y="6141600"/>
              <a:ext cx="498600" cy="4953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3500000">
              <a:off x="7591680" y="5484960"/>
              <a:ext cx="746280" cy="731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7583400" y="568800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13500000">
              <a:off x="8123760" y="6009480"/>
              <a:ext cx="714240" cy="714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729560" y="6391440"/>
              <a:ext cx="657360" cy="347400"/>
            </a:xfrm>
            <a:custGeom>
              <a:avLst/>
              <a:gdLst/>
              <a:ahLst/>
              <a:rect l="l" t="t" r="r" b="b"/>
              <a:pathLst>
                <a:path w="414" h="219">
                  <a:moveTo>
                    <a:pt x="0" y="218"/>
                  </a:moveTo>
                  <a:lnTo>
                    <a:pt x="207" y="217"/>
                  </a:lnTo>
                  <a:lnTo>
                    <a:pt x="413" y="0"/>
                  </a:lnTo>
                  <a:lnTo>
                    <a:pt x="203" y="0"/>
                  </a:lnTo>
                  <a:lnTo>
                    <a:pt x="0" y="218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94560" y="6008760"/>
              <a:ext cx="317520" cy="3110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onclusions &amp; Next Step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re is a lot of information available, but much is either overly generic or very specific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DK Tutorials and samples are fairly goo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ed to determine if WConsole can be operated in DCHP environmen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ext Step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stall TinyFTP for remote uploading of Objec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reate custom objec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cus on Stub, OCF, and Inter-Object Communication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ompile and run NU cod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382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ourc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pen R SDK: ProgrammersGuide_E.pdf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pen R SDK: InstallationGuide_E.pdf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T-install.zip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: Product_Submit2004.zip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UbotFinalReport2004.pdf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hien-Tai (Jason) Lo: 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Research on AIBO ERS-7 for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 RoboCup</a:t>
            </a: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3"/>
              </a:rPr>
              <a:t> soccer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(http://ltu164.ltu.edu/aibo/)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581960" y="5203800"/>
            <a:ext cx="1411200" cy="2067840"/>
            <a:chOff x="7581960" y="5203800"/>
            <a:chExt cx="1411200" cy="2067840"/>
          </a:xfrm>
        </p:grpSpPr>
        <p:sp>
          <p:nvSpPr>
            <p:cNvPr id="392" name=""/>
            <p:cNvSpPr/>
            <p:nvPr/>
          </p:nvSpPr>
          <p:spPr>
            <a:xfrm flipH="1" rot="2700000">
              <a:off x="8366760" y="6143760"/>
              <a:ext cx="506160" cy="512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13500000">
              <a:off x="7776360" y="6409080"/>
              <a:ext cx="715680" cy="713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16200000">
              <a:off x="8153640" y="5205240"/>
              <a:ext cx="324000" cy="320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5400000">
              <a:off x="8272440" y="5668920"/>
              <a:ext cx="714240" cy="7272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8100000">
              <a:off x="8114040" y="5757120"/>
              <a:ext cx="319320" cy="3128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81960" y="5911920"/>
              <a:ext cx="687240" cy="234720"/>
            </a:xfrm>
            <a:custGeom>
              <a:avLst/>
              <a:gdLst/>
              <a:ahLst/>
              <a:rect l="l" t="t" r="r" b="b"/>
              <a:pathLst>
                <a:path w="433" h="148">
                  <a:moveTo>
                    <a:pt x="0" y="0"/>
                  </a:moveTo>
                  <a:lnTo>
                    <a:pt x="143" y="145"/>
                  </a:lnTo>
                  <a:lnTo>
                    <a:pt x="432" y="147"/>
                  </a:lnTo>
                  <a:lnTo>
                    <a:pt x="286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85160" y="52610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2418840" y="1329120"/>
            <a:ext cx="1757520" cy="1330200"/>
            <a:chOff x="2418840" y="1329120"/>
            <a:chExt cx="1757520" cy="1330200"/>
          </a:xfrm>
        </p:grpSpPr>
        <p:sp>
          <p:nvSpPr>
            <p:cNvPr id="400" name=""/>
            <p:cNvSpPr/>
            <p:nvPr/>
          </p:nvSpPr>
          <p:spPr>
            <a:xfrm rot="2700000">
              <a:off x="3402360" y="1855440"/>
              <a:ext cx="64116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2700000">
              <a:off x="2482560" y="228240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8900000">
              <a:off x="3478320" y="139500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6200000">
              <a:off x="2617920" y="1982880"/>
              <a:ext cx="44424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3960" y="1978200"/>
              <a:ext cx="6429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3500000">
              <a:off x="3560760" y="2257200"/>
              <a:ext cx="31752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18080" y="1716120"/>
              <a:ext cx="215640" cy="689040"/>
            </a:xfrm>
            <a:custGeom>
              <a:avLst/>
              <a:gdLst/>
              <a:ahLst/>
              <a:rect l="l" t="t" r="r" b="b"/>
              <a:pathLst>
                <a:path w="136" h="434">
                  <a:moveTo>
                    <a:pt x="135" y="433"/>
                  </a:moveTo>
                  <a:lnTo>
                    <a:pt x="135" y="135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97"/>
                  </a:lnTo>
                  <a:lnTo>
                    <a:pt x="4" y="301"/>
                  </a:lnTo>
                  <a:lnTo>
                    <a:pt x="135" y="432"/>
                  </a:lnTo>
                  <a:lnTo>
                    <a:pt x="135" y="433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008000" y="515880"/>
            <a:ext cx="836280" cy="2146320"/>
            <a:chOff x="1008000" y="515880"/>
            <a:chExt cx="836280" cy="2146320"/>
          </a:xfrm>
        </p:grpSpPr>
        <p:sp>
          <p:nvSpPr>
            <p:cNvPr id="408" name=""/>
            <p:cNvSpPr/>
            <p:nvPr/>
          </p:nvSpPr>
          <p:spPr>
            <a:xfrm>
              <a:off x="1432080" y="2008080"/>
              <a:ext cx="322200" cy="3254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0800000">
              <a:off x="1193760" y="515880"/>
              <a:ext cx="642960" cy="642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1398240" y="166968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1009800" y="1007640"/>
              <a:ext cx="64116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39920" y="660240"/>
              <a:ext cx="317520" cy="3160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382040" y="235116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9640" y="1660680"/>
              <a:ext cx="639720" cy="336240"/>
            </a:xfrm>
            <a:custGeom>
              <a:avLst/>
              <a:gdLst/>
              <a:ahLst/>
              <a:rect l="l" t="t" r="r" b="b"/>
              <a:pathLst>
                <a:path w="403" h="212">
                  <a:moveTo>
                    <a:pt x="0" y="0"/>
                  </a:moveTo>
                  <a:lnTo>
                    <a:pt x="211" y="211"/>
                  </a:lnTo>
                  <a:lnTo>
                    <a:pt x="402" y="211"/>
                  </a:lnTo>
                  <a:lnTo>
                    <a:pt x="399" y="208"/>
                  </a:lnTo>
                  <a:lnTo>
                    <a:pt x="192" y="1"/>
                  </a:lnTo>
                  <a:lnTo>
                    <a:pt x="186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638600" y="1415880"/>
            <a:ext cx="1453320" cy="1735920"/>
            <a:chOff x="4638600" y="1415880"/>
            <a:chExt cx="1453320" cy="1735920"/>
          </a:xfrm>
        </p:grpSpPr>
        <p:sp>
          <p:nvSpPr>
            <p:cNvPr id="416" name=""/>
            <p:cNvSpPr/>
            <p:nvPr/>
          </p:nvSpPr>
          <p:spPr>
            <a:xfrm>
              <a:off x="4648320" y="173196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700000">
              <a:off x="5317920" y="1869840"/>
              <a:ext cx="641160" cy="6411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8900000">
              <a:off x="5092200" y="1507680"/>
              <a:ext cx="444600" cy="4446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8100000">
              <a:off x="4784040" y="2374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86360" y="1728720"/>
              <a:ext cx="31752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10800000">
              <a:off x="4648320" y="2063520"/>
              <a:ext cx="31104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38600" y="2048040"/>
              <a:ext cx="344520" cy="639720"/>
            </a:xfrm>
            <a:custGeom>
              <a:avLst/>
              <a:gdLst/>
              <a:ahLst/>
              <a:rect l="l" t="t" r="r" b="b"/>
              <a:pathLst>
                <a:path w="217" h="403">
                  <a:moveTo>
                    <a:pt x="0" y="402"/>
                  </a:moveTo>
                  <a:lnTo>
                    <a:pt x="216" y="191"/>
                  </a:lnTo>
                  <a:lnTo>
                    <a:pt x="216" y="0"/>
                  </a:lnTo>
                  <a:lnTo>
                    <a:pt x="213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210360" y="1368360"/>
            <a:ext cx="1297080" cy="1611360"/>
            <a:chOff x="6210360" y="1368360"/>
            <a:chExt cx="1297080" cy="1611360"/>
          </a:xfrm>
        </p:grpSpPr>
        <p:sp>
          <p:nvSpPr>
            <p:cNvPr id="424" name=""/>
            <p:cNvSpPr/>
            <p:nvPr/>
          </p:nvSpPr>
          <p:spPr>
            <a:xfrm flipH="1" rot="13500000">
              <a:off x="6636960" y="2443320"/>
              <a:ext cx="444600" cy="44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6560" y="2023920"/>
              <a:ext cx="32220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65920" y="136836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6211800" y="1375920"/>
              <a:ext cx="64116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0800000">
              <a:off x="6860880" y="2340000"/>
              <a:ext cx="322200" cy="3189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rot="10800000">
              <a:off x="6525000" y="2023920"/>
              <a:ext cx="311400" cy="314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24640" y="2021040"/>
              <a:ext cx="334800" cy="639720"/>
            </a:xfrm>
            <a:custGeom>
              <a:avLst/>
              <a:gdLst/>
              <a:ahLst/>
              <a:rect l="l" t="t" r="r" b="b"/>
              <a:pathLst>
                <a:path w="211" h="403">
                  <a:moveTo>
                    <a:pt x="0" y="402"/>
                  </a:moveTo>
                  <a:lnTo>
                    <a:pt x="210" y="191"/>
                  </a:lnTo>
                  <a:lnTo>
                    <a:pt x="210" y="0"/>
                  </a:lnTo>
                  <a:lnTo>
                    <a:pt x="208" y="3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401"/>
                  </a:lnTo>
                  <a:lnTo>
                    <a:pt x="0" y="402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001880" y="3641400"/>
            <a:ext cx="1450800" cy="1122840"/>
            <a:chOff x="1001880" y="3641400"/>
            <a:chExt cx="1450800" cy="1122840"/>
          </a:xfrm>
        </p:grpSpPr>
        <p:sp>
          <p:nvSpPr>
            <p:cNvPr id="432" name=""/>
            <p:cNvSpPr/>
            <p:nvPr/>
          </p:nvSpPr>
          <p:spPr>
            <a:xfrm flipH="1">
              <a:off x="1231200" y="3741840"/>
              <a:ext cx="446040" cy="446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31920" y="4203720"/>
              <a:ext cx="322200" cy="32688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3500000">
              <a:off x="1365120" y="3777840"/>
              <a:ext cx="64152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1479240" y="4111560"/>
              <a:ext cx="650880" cy="6476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0800000">
              <a:off x="1690200" y="3641400"/>
              <a:ext cx="306360" cy="307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rot="5400000">
              <a:off x="2139840" y="4104720"/>
              <a:ext cx="314280" cy="3110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01880" y="4546440"/>
              <a:ext cx="687240" cy="217800"/>
            </a:xfrm>
            <a:custGeom>
              <a:avLst/>
              <a:gdLst/>
              <a:ahLst/>
              <a:rect l="l" t="t" r="r" b="b"/>
              <a:pathLst>
                <a:path w="433" h="137">
                  <a:moveTo>
                    <a:pt x="0" y="136"/>
                  </a:moveTo>
                  <a:lnTo>
                    <a:pt x="297" y="135"/>
                  </a:lnTo>
                  <a:lnTo>
                    <a:pt x="432" y="0"/>
                  </a:lnTo>
                  <a:lnTo>
                    <a:pt x="429" y="1"/>
                  </a:lnTo>
                  <a:lnTo>
                    <a:pt x="135" y="0"/>
                  </a:lnTo>
                  <a:lnTo>
                    <a:pt x="131" y="4"/>
                  </a:lnTo>
                  <a:lnTo>
                    <a:pt x="0" y="135"/>
                  </a:lnTo>
                  <a:lnTo>
                    <a:pt x="0" y="136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863800" y="3660480"/>
            <a:ext cx="1292400" cy="1092600"/>
            <a:chOff x="2863800" y="3660480"/>
            <a:chExt cx="1292400" cy="1092600"/>
          </a:xfrm>
        </p:grpSpPr>
        <p:sp>
          <p:nvSpPr>
            <p:cNvPr id="440" name=""/>
            <p:cNvSpPr/>
            <p:nvPr/>
          </p:nvSpPr>
          <p:spPr>
            <a:xfrm>
              <a:off x="3833640" y="4425840"/>
              <a:ext cx="322560" cy="32724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100000">
              <a:off x="3036600" y="3793680"/>
              <a:ext cx="644400" cy="64476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0800000">
              <a:off x="317340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879640" y="442872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rot="5400000">
              <a:off x="3512880" y="44254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63800" y="4091040"/>
              <a:ext cx="639720" cy="334800"/>
            </a:xfrm>
            <a:custGeom>
              <a:avLst/>
              <a:gdLst/>
              <a:ahLst/>
              <a:rect l="l" t="t" r="r" b="b"/>
              <a:pathLst>
                <a:path w="403" h="211">
                  <a:moveTo>
                    <a:pt x="0" y="0"/>
                  </a:moveTo>
                  <a:lnTo>
                    <a:pt x="211" y="210"/>
                  </a:lnTo>
                  <a:lnTo>
                    <a:pt x="402" y="210"/>
                  </a:lnTo>
                  <a:lnTo>
                    <a:pt x="399" y="208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 rot="18900000">
            <a:off x="2650680" y="4211640"/>
            <a:ext cx="446040" cy="446040"/>
          </a:xfrm>
          <a:prstGeom prst="rtTriangle">
            <a:avLst/>
          </a:prstGeom>
          <a:solidFill>
            <a:srgbClr val="669900"/>
          </a:solidFill>
          <a:ln w="1260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962240" y="3766320"/>
            <a:ext cx="1351080" cy="1477800"/>
            <a:chOff x="4962240" y="3766320"/>
            <a:chExt cx="1351080" cy="1477800"/>
          </a:xfrm>
        </p:grpSpPr>
        <p:sp>
          <p:nvSpPr>
            <p:cNvPr id="448" name=""/>
            <p:cNvSpPr/>
            <p:nvPr/>
          </p:nvSpPr>
          <p:spPr>
            <a:xfrm flipH="1" rot="13500000">
              <a:off x="5511960" y="446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962240" y="3766320"/>
              <a:ext cx="1351080" cy="1008720"/>
              <a:chOff x="4962240" y="3766320"/>
              <a:chExt cx="1351080" cy="1008720"/>
            </a:xfrm>
          </p:grpSpPr>
          <p:sp>
            <p:nvSpPr>
              <p:cNvPr id="450" name=""/>
              <p:cNvSpPr/>
              <p:nvPr/>
            </p:nvSpPr>
            <p:spPr>
              <a:xfrm flipH="1" rot="5400000">
                <a:off x="4969080" y="4329000"/>
                <a:ext cx="434880" cy="44136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73480" y="3981600"/>
                <a:ext cx="322560" cy="326880"/>
              </a:xfrm>
              <a:prstGeom prst="rect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2700000">
                <a:off x="5095440" y="3986280"/>
                <a:ext cx="644400" cy="64440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8100000">
                <a:off x="5076360" y="3830760"/>
                <a:ext cx="31428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8100000">
                <a:off x="5927040" y="4176360"/>
                <a:ext cx="320400" cy="317520"/>
              </a:xfrm>
              <a:prstGeom prst="rtTriangle">
                <a:avLst/>
              </a:prstGeom>
              <a:solidFill>
                <a:srgbClr val="669900"/>
              </a:solidFill>
              <a:ln w="1260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076800" y="4087800"/>
                <a:ext cx="217800" cy="687240"/>
              </a:xfrm>
              <a:custGeom>
                <a:avLst/>
                <a:gdLst/>
                <a:ahLst/>
                <a:rect l="l" t="t" r="r" b="b"/>
                <a:pathLst>
                  <a:path w="137" h="433">
                    <a:moveTo>
                      <a:pt x="0" y="0"/>
                    </a:moveTo>
                    <a:lnTo>
                      <a:pt x="1" y="297"/>
                    </a:lnTo>
                    <a:lnTo>
                      <a:pt x="136" y="432"/>
                    </a:lnTo>
                    <a:lnTo>
                      <a:pt x="135" y="429"/>
                    </a:lnTo>
                    <a:lnTo>
                      <a:pt x="136" y="135"/>
                    </a:lnTo>
                    <a:lnTo>
                      <a:pt x="132" y="13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9900"/>
              </a:solidFill>
              <a:ln w="12600">
                <a:solidFill>
                  <a:srgbClr val="66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6873480" y="3225960"/>
            <a:ext cx="1398960" cy="1531440"/>
            <a:chOff x="6873480" y="3225960"/>
            <a:chExt cx="1398960" cy="1531440"/>
          </a:xfrm>
        </p:grpSpPr>
        <p:sp>
          <p:nvSpPr>
            <p:cNvPr id="457" name=""/>
            <p:cNvSpPr/>
            <p:nvPr/>
          </p:nvSpPr>
          <p:spPr>
            <a:xfrm rot="18900000">
              <a:off x="7174080" y="3763440"/>
              <a:ext cx="314280" cy="32076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rot="2700000">
              <a:off x="7494120" y="3816360"/>
              <a:ext cx="644400" cy="644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rot="5400000">
              <a:off x="7345440" y="4108320"/>
              <a:ext cx="644400" cy="641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7005600" y="3225240"/>
              <a:ext cx="31428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3500000">
              <a:off x="6940440" y="3995280"/>
              <a:ext cx="324000" cy="324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31040" y="3225960"/>
              <a:ext cx="217440" cy="685800"/>
            </a:xfrm>
            <a:custGeom>
              <a:avLst/>
              <a:gdLst/>
              <a:ahLst/>
              <a:rect l="l" t="t" r="r" b="b"/>
              <a:pathLst>
                <a:path w="137" h="432">
                  <a:moveTo>
                    <a:pt x="0" y="297"/>
                  </a:moveTo>
                  <a:lnTo>
                    <a:pt x="136" y="431"/>
                  </a:lnTo>
                  <a:lnTo>
                    <a:pt x="135" y="135"/>
                  </a:lnTo>
                  <a:lnTo>
                    <a:pt x="0" y="0"/>
                  </a:lnTo>
                  <a:lnTo>
                    <a:pt x="0" y="297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700000">
              <a:off x="7133760" y="4241520"/>
              <a:ext cx="426960" cy="4273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206360" y="3160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Q &amp; A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 Layer Architectur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38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85800" y="2514600"/>
            <a:ext cx="3962160" cy="3886200"/>
            <a:chOff x="685800" y="2514600"/>
            <a:chExt cx="3962160" cy="3886200"/>
          </a:xfrm>
        </p:grpSpPr>
        <p:sp>
          <p:nvSpPr>
            <p:cNvPr id="146" name=""/>
            <p:cNvSpPr/>
            <p:nvPr/>
          </p:nvSpPr>
          <p:spPr>
            <a:xfrm>
              <a:off x="685800" y="2514600"/>
              <a:ext cx="3962160" cy="38862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33440" y="3200400"/>
              <a:ext cx="2666880" cy="2514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19240" y="3848040"/>
              <a:ext cx="1295280" cy="12193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8f8f8"/>
                  </a:solidFill>
                  <a:latin typeface="Arial"/>
                </a:rPr>
                <a:t>Hardware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396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Services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8000" y="5867280"/>
              <a:ext cx="166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Arial"/>
                </a:rPr>
                <a:t>Application</a:t>
              </a: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Hardw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ower Syste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Sensor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vic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ctuators (Motors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peaker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emory Stic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ireless Devi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54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Applic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” Drive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bjects (Executables) are loaded upon boot up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xecutables typically have the “.bin” extension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bjects communicate via messaging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64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Object Messaging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bject Communi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ubject - Observ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240320" y="4693320"/>
            <a:ext cx="1732320" cy="2391120"/>
            <a:chOff x="7240320" y="4693320"/>
            <a:chExt cx="1732320" cy="2391120"/>
          </a:xfrm>
        </p:grpSpPr>
        <p:sp>
          <p:nvSpPr>
            <p:cNvPr id="174" name=""/>
            <p:cNvSpPr/>
            <p:nvPr/>
          </p:nvSpPr>
          <p:spPr>
            <a:xfrm flipH="1" rot="18900000">
              <a:off x="7305480" y="477180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3500000">
              <a:off x="7733880" y="6500520"/>
              <a:ext cx="486360" cy="4824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67480" y="4924440"/>
              <a:ext cx="457200" cy="45720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5400000">
              <a:off x="7601760" y="5292720"/>
              <a:ext cx="714240" cy="7110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8100000">
              <a:off x="7769160" y="4760280"/>
              <a:ext cx="320760" cy="31752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7598880" y="6018120"/>
              <a:ext cx="7160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23200" y="6411960"/>
              <a:ext cx="649440" cy="323640"/>
            </a:xfrm>
            <a:custGeom>
              <a:avLst/>
              <a:gdLst/>
              <a:ahLst/>
              <a:rect l="l" t="t" r="r" b="b"/>
              <a:pathLst>
                <a:path w="409" h="204">
                  <a:moveTo>
                    <a:pt x="408" y="0"/>
                  </a:moveTo>
                  <a:lnTo>
                    <a:pt x="203" y="0"/>
                  </a:lnTo>
                  <a:lnTo>
                    <a:pt x="0" y="203"/>
                  </a:lnTo>
                  <a:lnTo>
                    <a:pt x="206" y="203"/>
                  </a:lnTo>
                  <a:lnTo>
                    <a:pt x="408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rcRect l="32031" t="53226" r="12500" b="15593"/>
          <a:stretch/>
        </p:blipFill>
        <p:spPr>
          <a:xfrm>
            <a:off x="533520" y="3048120"/>
            <a:ext cx="662940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ass Developm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ass Characteristic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sic Method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munication Method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ass Development Step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85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ass Dev.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Class Characteristic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 core class inherits from the OObject clas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 core class implement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oInit(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oStart(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oStop(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DoDestroy(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 core class has the necessary number of OSubject and OObserve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numOfSubject and numOfObserver are defined in def.h that is generated by the stubgen2 command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195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ass Dev.</a:t>
            </a:r>
            <a:br>
              <a:rPr sz="5400"/>
            </a:br>
            <a:r>
              <a:rPr b="0" lang="en-US" sz="2400" spc="-1" strike="noStrike">
                <a:solidFill>
                  <a:srgbClr val="0099ff"/>
                </a:solidFill>
                <a:latin typeface="Arial Black"/>
              </a:rPr>
              <a:t>Basic Method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Init meth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is called at startup. This method initializes instances and variab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tart meth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is called at startup after Init is executed in all object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Stop meth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is called at shutdow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Destroy metho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s is called at shutdown after Stop is executed in all objects. This method destroys the subject and observer instanc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230960" y="5454360"/>
            <a:ext cx="1769400" cy="1254240"/>
            <a:chOff x="7230960" y="5454360"/>
            <a:chExt cx="1769400" cy="1254240"/>
          </a:xfrm>
        </p:grpSpPr>
        <p:sp>
          <p:nvSpPr>
            <p:cNvPr id="205" name=""/>
            <p:cNvSpPr/>
            <p:nvPr/>
          </p:nvSpPr>
          <p:spPr>
            <a:xfrm flipH="1" rot="10800000">
              <a:off x="8553960" y="6384600"/>
              <a:ext cx="3286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4320000">
              <a:off x="7376760" y="5548320"/>
              <a:ext cx="714240" cy="7142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0960" y="6381720"/>
              <a:ext cx="649440" cy="326880"/>
            </a:xfrm>
            <a:custGeom>
              <a:avLst/>
              <a:gdLst/>
              <a:ahLst/>
              <a:rect l="l" t="t" r="r" b="b"/>
              <a:pathLst>
                <a:path w="409" h="206">
                  <a:moveTo>
                    <a:pt x="0" y="0"/>
                  </a:moveTo>
                  <a:lnTo>
                    <a:pt x="204" y="0"/>
                  </a:lnTo>
                  <a:lnTo>
                    <a:pt x="408" y="205"/>
                  </a:lnTo>
                  <a:lnTo>
                    <a:pt x="201" y="205"/>
                  </a:lnTo>
                  <a:lnTo>
                    <a:pt x="0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23120" y="6384960"/>
              <a:ext cx="319320" cy="315720"/>
            </a:xfrm>
            <a:prstGeom prst="rect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rot="4320000">
              <a:off x="8193960" y="5547600"/>
              <a:ext cx="714240" cy="712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7656120" y="6149520"/>
              <a:ext cx="460440" cy="46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7893000" y="6386040"/>
              <a:ext cx="314280" cy="3142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3:27:27Z</dcterms:created>
  <dc:creator>James A. Ureel</dc:creator>
  <dc:description/>
  <dc:language>en-US</dc:language>
  <cp:lastModifiedBy>James A. Ureel</cp:lastModifiedBy>
  <dcterms:modified xsi:type="dcterms:W3CDTF">2004-11-09T06:09:10Z</dcterms:modified>
  <cp:revision>21</cp:revision>
  <dc:subject/>
  <dc:title>Aibo Open R Introduction</dc:title>
</cp:coreProperties>
</file>